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BD54-A0B2-49FE-BD63-73D9FB8F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7830-D34A-4E14-8240-D66B5966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A692-A7BD-45C4-972C-228D1E14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4650-24F6-454A-AD42-C8DDF37E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5CBC-16B6-46C8-A822-3B2A0AE0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95D4-BA1D-4CC2-A927-B9F32E40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DC05-45A1-491E-88BF-30955F7C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9FD3-F416-4C70-9131-FDB6D8F7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B629-ED85-4A60-9061-730C564C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DCCA-60D6-477F-B039-D4522B07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9C6A-E505-49B2-97ED-E0729F00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2DA-97A9-45F8-B1B9-29949E5A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9011-A5CD-4893-8D8D-6190C1AE1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er Recycl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57440" y="5562720"/>
            <a:ext cx="3429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Jennifer Ry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411480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914400" y="563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Recycling Industry take up a large part of the whole paper indus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0" y="990720"/>
            <a:ext cx="4740120" cy="4876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0" y="1522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 Paper Re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one million people are involved in recycl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0392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cottsdalecc.edu/green/images/Recycle_1_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aceee.org/pubs/ie962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rccompany.co.kr/bizinfo/business02.p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repaper.co.kr/http://www.teachersdomain.org/resource/ess05.sci.ess.earthsys.recycledpaper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teachersdomain.org/resource/ess05.sci.ess.earthsys.recycleplan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kr.youtube.com/watch?v=djSWPET40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recyclingtoday.com/articles/article.asp?ID=3298&amp;IssueID=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images.google.co.kr/imgres?imgurl=http://www.pfizer-ehs.co.uk/images/Office-Paper-recycling.gif&amp;imgrefurl=http://www.pfizer-ehs.co.uk/waste.html&amp;usg=__-q4oMfSBJ4h8GpEwOS-5k5O0ktg=&amp;h=272&amp;w=500&amp;sz=18&amp;hl=ko&amp;start=1&amp;sig2=wx-VPTMLrB-N89ombZxk1Q&amp;um=1&amp;tbnid=_Hu5os-pBGOPEM:&amp;tbnh=71&amp;tbnw=130&amp;ei=WIw4SemaCpCksQP795S0BA&amp;prev=/images%3Fq%3Dpaper%2Brecycle%2Bgraph%26um%3D1%26complete%3D1%26hl%3Dko%26lr%3D%26newwindow%3D1%26sa%3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pfizer-ehs.co.uk/images/Office-Paper-recycling.gif http://sustainablog.org/files/2007/12/paper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p://www.me.go.kr/webdata/education/img/Vcgqt018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students.uwsp.edu/klemm431/soeportfolio/Recycling_energy_saving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ed for Paper Recyc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rease in per capita consumption averaged 1.8% per year from 1960 to 1980, 1.6% per year from 1980 to 1993, and has been projected at 0.6% per year during 1990 to 204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Pulp, paper, and paperboard mills account for 95% of energy use in the U.S. paper and allied products industry and about 12% of total manufacturing energy use in the U.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Science of Paper Recyc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% of paper in U.S. has been already recyc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bundle of paper as huge as a person can save 15 t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9520" y="990720"/>
            <a:ext cx="4876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pap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 them out and make them into bund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bundles get dissolved into new pap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2781360" cy="1739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120" y="2590920"/>
            <a:ext cx="2781360" cy="1739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62120" y="4724280"/>
            <a:ext cx="278136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4440" y="185760"/>
            <a:ext cx="8648640" cy="64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24280" y="16765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that takes trash to dis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: 2-5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k Pack: 5 y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cups: 20 y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. Dis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up to five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up landfill than any other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spaper and cardboard are everyw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1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quality than original and new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sive to remove ink from old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value of recycle paper contributes to its shaky economic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rea’s Paper Re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Gothic"/>
              </a:rPr>
              <a:t>The use of paper in Korea has been steadily incre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Gothic"/>
              </a:rPr>
              <a:t>Ko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produ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Gothic"/>
              </a:rPr>
              <a:t>s 69.6% of the total paer usage in Korea, so it has to rely on import for the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4,090 billion won is used for paying imported paper every y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% of the whole trash in Korea is pape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457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nnifer Ryu</cp:lastModifiedBy>
  <dcterms:modified xsi:type="dcterms:W3CDTF">2008-12-05T04:57:39Z</dcterms:modified>
  <cp:revision>2</cp:revision>
  <dc:subject/>
  <dc:title>Paper Recycling.</dc:title>
</cp:coreProperties>
</file>